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2C7BCF-02A1-4282-AC76-80DEE14F2DC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C257A-2C80-4CCB-B076-3F348FC6B8E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740EA8-A1EA-4FCB-A8E5-BED291E465E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A2BAFE-A254-4AC2-A1EA-6CB45969470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E69D33-D56A-4D6A-8D3E-EA4913C10C4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5DA71B-F1DF-4BB0-9661-4F10F932159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225E7-549C-4A47-AAB8-CA0C6420DB6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5BDC50-ADD2-4F69-98BA-A0BC8924EE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B23243-7BA5-45A3-AEC4-3E5AECA2E3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60CBC1-868D-4F26-9D72-A276E3358E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B4BE00-DF2B-4998-AC25-8950FDE782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87C897-854D-4B69-B12D-CBF38237272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A559D0-5562-4750-9C24-F25A9EF2B9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22B388-22AF-4BC3-BD19-B7AAB71478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A85EE6-82A7-4FCD-A3C5-4F14D75B26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DB4EBC-921E-4DE4-8136-49667947D63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0EDE6E-7051-4E5D-AB32-0A01E1922F3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9F77F2-393C-4CEF-9735-79CDD7D92A3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00B346-174A-459B-9AC1-A72D697961A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522009-7A25-4D94-AC00-EBF7AB37B8A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B5D585-ABD4-4C42-B12F-499E36BD10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495-62C3-4A77-A637-D5F8C8CE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A4B-8C83-4D55-B527-38545E4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5C1-2E7E-4230-B3B1-8DC5C83E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0B8-0A0E-418A-947A-2585CADE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AB79-D7F8-4B63-9753-E31763F0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74A8-CF51-400B-8ED8-99D6334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8ED-8723-42DF-B131-A0292F60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F78-65CB-45D3-B1F1-4220F6D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939A-74F9-4CF0-9192-AE9EE49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518-36F9-46D5-B2DA-BCD458C4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3877-774E-4747-B440-6C02A0D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EC1-41FF-4143-A5C3-FE8AB38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C17-61EC-4AE8-83FA-9EE3682E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228-7252-47BF-AA28-9B7CDA4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320B-0462-437D-A392-5E0F05C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6350-7400-4D7D-9AD3-19A90830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07EB-C501-42EF-B7DB-C17CBAE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2E5-59A7-49D0-9273-D82557D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CD6-E4A3-45ED-806D-BBAB140C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858-BA1A-486A-889E-B1E9165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87B-0664-41DA-9E4C-BC3FBB7D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360-FD2A-4547-8E0A-718080A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6FE-5C02-4632-A312-F5A5652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0F4-8F88-4B11-BE9C-6E60718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69D7-919F-4A70-8E4D-9AEBCCE55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AAF-D680-44A1-BE6C-A45D6CE42F7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Arial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gment postings with </a:t>
            </a: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i,j)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ing items in range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p*n^2)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29T13:30:15Z</dcterms:modified>
  <cp:revision>1204</cp:revision>
  <dc:subject/>
  <dc:title>Web Algorithmics</dc:title>
</cp:coreProperties>
</file>